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media/laser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203D-31AB-4519-9ED9-16D23704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E495-748F-4BFB-9065-93115AB4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279-C05C-47F4-8FFF-CEAEC6CC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273-51C2-48C9-8060-9D1D4599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DC6-13A1-4996-BB09-66E87B46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47E-7515-45D4-95AA-6901BCAD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3716-AA5F-4E5B-BA9B-36E71431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5A4-2073-493E-8ED4-F2836FAF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81EE-2AE2-428C-9B04-5E425FDD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283A-63A6-4EAB-8D06-8EBD1DC2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A0A-577E-4A8A-8CEB-12AEDA1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C37C-C732-4084-B7F2-7E929AD6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B48B-2A55-46F0-B708-47BD7A1DFD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suction.wav"/><Relationship Id="rId7" Type="http://schemas.openxmlformats.org/officeDocument/2006/relationships/audio" Target="../media/suction.wav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audio" Target="../media/laser.wav"/><Relationship Id="rId16" Type="http://schemas.openxmlformats.org/officeDocument/2006/relationships/audio" Target="../media/laser.wav"/><Relationship Id="rId17" Type="http://schemas.openxmlformats.org/officeDocument/2006/relationships/audio" Target="../media/laser.wav"/><Relationship Id="rId18" Type="http://schemas.openxmlformats.org/officeDocument/2006/relationships/audio" Target="../media/laser.wav"/><Relationship Id="rId19" Type="http://schemas.openxmlformats.org/officeDocument/2006/relationships/audio" Target="../media/laser.wav"/><Relationship Id="rId20" Type="http://schemas.openxmlformats.org/officeDocument/2006/relationships/audio" Target="../media/laser.wav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bomb.wav"/><Relationship Id="rId6" Type="http://schemas.openxmlformats.org/officeDocument/2006/relationships/audio" Target="../media/bomb.wav"/><Relationship Id="rId7" Type="http://schemas.openxmlformats.org/officeDocument/2006/relationships/audio" Target="../media/bomb.wav"/><Relationship Id="rId8" Type="http://schemas.openxmlformats.org/officeDocument/2006/relationships/audio" Target="../media/bomb.wav"/><Relationship Id="rId9" Type="http://schemas.openxmlformats.org/officeDocument/2006/relationships/audio" Target="../media/bomb.wav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audio" Target="../media/applause.wav"/><Relationship Id="rId8" Type="http://schemas.openxmlformats.org/officeDocument/2006/relationships/audio" Target="../media/applause.wav"/><Relationship Id="rId9" Type="http://schemas.openxmlformats.org/officeDocument/2006/relationships/audio" Target="../media/applause.wav"/><Relationship Id="rId10" Type="http://schemas.openxmlformats.org/officeDocument/2006/relationships/audio" Target="../media/applause.wav"/><Relationship Id="rId11" Type="http://schemas.openxmlformats.org/officeDocument/2006/relationships/audio" Target="../media/applause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意疑问句和推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852640"/>
            <a:ext cx="77738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+,-- ? She’s  afraid of dogs, 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回答时否定用简略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主语必须为人称代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, + ?  Bill daren’t say such rude things,     dare 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1) Yes, he dare. /  No, he daren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敢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She can’t be in the library, i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 I saw her on the play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过去事实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ave d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Tom must have returned the book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dnesday, did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rary     /,                         hasn’t h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00" y="2997360"/>
            <a:ext cx="71280" cy="863280"/>
          </a:xfrm>
          <a:custGeom>
            <a:avLst/>
            <a:gdLst>
              <a:gd name="textAreaLeft" fmla="*/ 45720 w 71280"/>
              <a:gd name="textAreaRight" fmla="*/ 71640 w 7128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987640" y="501336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Mike can’t have finished his 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ay before yesterday, did 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,                                        has he?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同向反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-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表感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You’ve made a mess of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I have, have I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I won’t let you go out to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 You won’t , w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7280" y="2421000"/>
            <a:ext cx="71640" cy="720720"/>
          </a:xfrm>
          <a:custGeom>
            <a:avLst/>
            <a:gdLst>
              <a:gd name="textAreaLeft" fmla="*/ 45720 w 71640"/>
              <a:gd name="textAreaRight" fmla="*/ 72000 w 7164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549360"/>
            <a:ext cx="80010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here’s something worth reading in today’s newspaper, isn’t ther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祈使句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, +/-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me what it is , will /won’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cy, you feed the dog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, + ? Don’t be late again,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Let’s =let us    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discuss about it , shall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=let us    will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33560" y="5373720"/>
            <a:ext cx="7128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59280" y="55641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33880" y="449568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us go to the cinema tonight , will you, Mum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I wish to go out for the picnic with you today , may I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wishes to be on your team, may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not, never, hardly, seldom, scarcely, little, nothing, non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rry has never had a good education, ha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seldom goes out at night , does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happy          unhappy, polite         impo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24000" y="5516640"/>
            <a:ext cx="93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2050920" y="5661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200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5661000"/>
            <a:ext cx="100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9144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     dislike, careful      ca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m is very careless in his homework , isn’t 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’t like maths , does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likes maths , doe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You and I discussed this the other day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w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body hopes to join the club ,don’t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并列句            就近原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24000" y="765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123640" y="83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35640" y="765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5363640" y="9079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505080" cy="1152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9280" y="6093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is American but she speaks Chinese very well, does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brother doesn’t work hard at his lessons but he is fond of computer, isn’t h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从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宾语从句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: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第一人称        同从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he isn’t in at the moment, is h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主句的主语为非第一人称时          同主句：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told you she was ill that day, didn’t sh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6560" y="4508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19640" y="544500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8229600" cy="488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语从句              同主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first time you’ve been abroad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. What a pleasant day, isn’t i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kind airhostess, isn’t she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情态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have to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必须加助动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/wo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to go to the dentist’s, don’t you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have to hand in the composition tomorrow, won’t w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3.’d better      had better           had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 rather      would rather         wouldn’t       + S?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68360" y="692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2781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436572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4797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716360" y="4365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360" y="4365720"/>
            <a:ext cx="360360" cy="503280"/>
          </a:xfrm>
          <a:custGeom>
            <a:avLst/>
            <a:gdLst>
              <a:gd name="textAreaLeft" fmla="*/ 0 w 360360"/>
              <a:gd name="textAreaRight" fmla="*/ 129960 w 360360"/>
              <a:gd name="textAreaTop" fmla="*/ 12960 h 503280"/>
              <a:gd name="textAreaBottom" fmla="*/ 49032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2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0" dur="5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3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6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d better remain here with him, hadn‘t you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’d rather come a little later, would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n’t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us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n’t  + 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used to be a heavy smoker, used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didn’t  you 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11280" y="3213000"/>
            <a:ext cx="360360" cy="1152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2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5" dur="2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8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1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4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7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0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590400" y="476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.ought to                oughtn’t /shouldn’t +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ought to do something for him to overcome the difficulty, oughtn’t /shouldn’t w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n’t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.m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n’t  + S ?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商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ust obey the traffic rules, mustn’t we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ust hand in the homework today, needn’t  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般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推测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620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80000" y="1484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924360" y="2060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0920" y="1433520"/>
            <a:ext cx="144720" cy="627120"/>
          </a:xfrm>
          <a:custGeom>
            <a:avLst/>
            <a:gdLst>
              <a:gd name="textAreaLeft" fmla="*/ 92520 w 144720"/>
              <a:gd name="textAreaRight" fmla="*/ 145080 w 144720"/>
              <a:gd name="textAreaTop" fmla="*/ 16200 h 627120"/>
              <a:gd name="textAreaBottom" fmla="*/ 61092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5080" y="328464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必然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推测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肯定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/m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般事实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否定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疑问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/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She must be at home now,isn’t sh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I gave her a phone call just now and she answere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80000" y="292428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08000" y="1628640"/>
            <a:ext cx="287640" cy="1008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19640" y="1052640"/>
            <a:ext cx="144360" cy="647640"/>
          </a:xfrm>
          <a:custGeom>
            <a:avLst/>
            <a:gdLst>
              <a:gd name="textAreaLeft" fmla="*/ 92160 w 144360"/>
              <a:gd name="textAreaRight" fmla="*/ 144360 w 144360"/>
              <a:gd name="textAreaTop" fmla="*/ 16560 h 647640"/>
              <a:gd name="textAreaBottom" fmla="*/ 63108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0" y="2276640"/>
            <a:ext cx="144360" cy="57600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43280" y="1052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40000" y="3357720"/>
            <a:ext cx="144360" cy="934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ang xing zhong</cp:lastModifiedBy>
  <dcterms:modified xsi:type="dcterms:W3CDTF">2003-11-20T11:36:20Z</dcterms:modified>
  <cp:revision>51</cp:revision>
  <dc:subject/>
  <dc:title>PowerPoint Presentation</dc:title>
</cp:coreProperties>
</file>